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3.jpeg" ContentType="image/jpeg"/>
  <Override PartName="/ppt/media/image10.jpeg" ContentType="image/jpeg"/>
  <Override PartName="/ppt/media/image5.png" ContentType="image/pn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FD3F0-9FF6-482F-92F0-0984EDE02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1B440-252A-4C01-85AD-FC99E2BA4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D3D39-1CC0-424B-AB65-249794233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41732-F165-45CD-B7F3-FFD3B2322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9B1B27-3E41-4974-A0B8-A163393107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F203CB-A8B8-451D-A8D8-482203935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14BD7E-12AA-4B0C-B327-087EBADB9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2374A-B1CA-478D-83E5-938517376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F1E06-D9C5-4E16-9361-AC33880134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A7B47-470A-47DF-B141-CC3A61839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2EB26-66AB-495B-850D-D14800F5A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43306-DD57-4BBC-9A5F-E2A953E85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5B5BC-9B7E-495A-A636-7A8DCB279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CE9B1-3926-43F4-8A30-546FF3F4B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7149A-40A1-4F25-AD4E-2665A51A2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91DB8E-3534-4590-9A4F-E9860E0D72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5BA46D-47A5-4BCE-B6D6-BCFB6AC970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E2B024-1E24-4C6A-91EA-5D5F861483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24425E-FC2B-4D80-A60F-0FC18243BB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E9AA8B-BA14-4F9C-B881-DD9B9696DE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345948-D87D-4807-ADE9-FEF219DAB0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29BB94-3891-43A2-89B9-2AF30CCAA9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DB91F-7732-410A-A5A6-11D0B7C1C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00BCCB-7B2E-4710-A188-2C980A0533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DCF98B-BF41-421C-9004-573905BF20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209BCE-15E2-4A2D-8F67-E599BD0B5A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0742F1-495D-4CA9-84BE-2C4FF5C3F2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3DC9AE-E2C9-4F66-BDB9-6ABDAB019E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19A345-F551-4743-BA50-015463B0A2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2892BC-457B-4761-914F-D10A0E310E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1BB142-B78D-42DB-A3D9-7B8C9AD673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58AA23-CF27-4C58-8978-82140B09D5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A75801-3BDD-4EBE-A7FB-AECF3978FC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D66D4-0A68-43E1-BEBB-9ACF833ED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BC64F8-B1C8-4A9E-8B7A-B44835FB10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4415B9-F94E-42C0-917B-F660D03A05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1BA811-503A-41FF-BB03-D2009598F9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2AC3D2-F30C-454D-BBC5-D12A168EAC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8DCCF3-534F-4B94-873A-8A10443FFC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F1B9FA-0EBE-4A1D-83AE-11E0ACDEBA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AD6C02-B969-482B-A931-ED7B1E1ACD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DD699F-BC73-46A4-99B2-5D98A653A6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C7EEC2-3A14-4F6F-A338-D417276D73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339BA-21DE-4557-9877-2FCBD04DF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6A005-254E-4305-8D5B-1239F13D4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14FEC-0B93-456B-A90A-41EFF81BC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38863-56AB-467E-8615-11C2BD069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D4A27-0124-40CA-A969-C29988E9F2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83C32-27FB-4D6D-950F-66940F20523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41347-B127-48FC-B775-8CDD24C4639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A6B50-FE88-4AA0-9D92-41408B6138E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6C759-59F7-481D-8C73-BEDAD5A6F0D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2" descr=""/>
          <p:cNvPicPr/>
          <p:nvPr/>
        </p:nvPicPr>
        <p:blipFill>
          <a:blip r:embed="rId1"/>
          <a:stretch/>
        </p:blipFill>
        <p:spPr>
          <a:xfrm>
            <a:off x="530280" y="1365120"/>
            <a:ext cx="830880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Ulf, Wolfgang, und Max</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nach wir fahren von Berlin nach Potsdam mit die Bah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tsdam</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Zuerst wir gehen in die Stadt.  Dann wir gehen in den Brunnen.  Der Brunnen ist sehr kühl.  Dann wir gehen in den Zoo.  Wir lieben die Elefanten.  Danach wir gehen in das Museum.  Zuletzt wir gehen in den Universitä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tsdam (Cont’d)</a:t>
            </a:r>
            <a:endParaRPr b="0" lang="en-US" sz="5000" spc="-1" strike="noStrike">
              <a:solidFill>
                <a:srgbClr val="04617b"/>
              </a:solidFill>
              <a:latin typeface="Calibri"/>
            </a:endParaRPr>
          </a:p>
        </p:txBody>
      </p:sp>
      <p:pic>
        <p:nvPicPr>
          <p:cNvPr id="221" name="Content Placeholder 3" descr="University_of_Potsdam_at_Neues_Palais.jpg"/>
          <p:cNvPicPr/>
          <p:nvPr/>
        </p:nvPicPr>
        <p:blipFill>
          <a:blip r:embed="rId1"/>
          <a:stretch/>
        </p:blipFill>
        <p:spPr>
          <a:xfrm>
            <a:off x="1646280" y="1935000"/>
            <a:ext cx="5851440" cy="438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tsdam Hotel</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H Voltaire Potsda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14.75 €/ nach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4" name="Picture 3" descr="1107140-t2-z2w.jpg"/>
          <p:cNvPicPr/>
          <p:nvPr/>
        </p:nvPicPr>
        <p:blipFill>
          <a:blip r:embed="rId1"/>
          <a:stretch/>
        </p:blipFill>
        <p:spPr>
          <a:xfrm>
            <a:off x="1981080" y="2743200"/>
            <a:ext cx="5264280" cy="3940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otsdam Hotel (Cont’d)</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Voltaire Hotel hat einem Fitnessraum und Wellness-Cent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s Hotel hat Radio (AM und F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s hotel hat einem Minib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nn wir fahren von Potsdam nach Brandenburg mit die Bah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randenburg</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Zuerst wir gehen in die Stadt.  Die Stadt hat viele Leutue.  Dann wir gehen auf das Theater.  Dann wir gehen in den Zoo.  (Wir lieben die Elefanten).  Danach wir gehen in das Brandenburg Tor.  Zuletzt wir gehen in das Hote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randenburg</a:t>
            </a:r>
            <a:endParaRPr b="0" lang="en-US" sz="5000" spc="-1" strike="noStrike">
              <a:solidFill>
                <a:srgbClr val="04617b"/>
              </a:solidFill>
              <a:latin typeface="Calibri"/>
            </a:endParaRPr>
          </a:p>
        </p:txBody>
      </p:sp>
      <p:pic>
        <p:nvPicPr>
          <p:cNvPr id="232" name="Content Placeholder 3" descr="berlinbrandenburggate_large.jpg"/>
          <p:cNvPicPr/>
          <p:nvPr/>
        </p:nvPicPr>
        <p:blipFill>
          <a:blip r:embed="rId1"/>
          <a:stretch/>
        </p:blipFill>
        <p:spPr>
          <a:xfrm>
            <a:off x="1646280" y="1935000"/>
            <a:ext cx="5851440" cy="4389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randenburg Hotel</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rcona Hotel Am Havelufer Potsda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30 €/ nach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35" name="Picture 3" descr="546039_69_b.jpg"/>
          <p:cNvPicPr/>
          <p:nvPr/>
        </p:nvPicPr>
        <p:blipFill>
          <a:blip r:embed="rId1"/>
          <a:stretch/>
        </p:blipFill>
        <p:spPr>
          <a:xfrm>
            <a:off x="1676520" y="3048120"/>
            <a:ext cx="5257800" cy="3184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randenburg Hotel (Cont’d)</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s Hotel ist an dem Flus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s Hotel hat Express-Checko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s Hotel hat einem Parkplatz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Zuerst, wir  fliegen von Chicago nach Poland, dann Poland nach Deutschland (Berli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Hotel Adlon</a:t>
            </a:r>
            <a:endParaRPr b="0" lang="en-US" sz="5000" spc="-1" strike="noStrike">
              <a:solidFill>
                <a:srgbClr val="04617b"/>
              </a:solidFill>
              <a:latin typeface="Calibri"/>
            </a:endParaRPr>
          </a:p>
        </p:txBody>
      </p:sp>
      <p:pic>
        <p:nvPicPr>
          <p:cNvPr id="239" name="Content Placeholder 3" descr="Hotel-Adlon-Kempinski-Berlin-pic1.jpg"/>
          <p:cNvPicPr/>
          <p:nvPr/>
        </p:nvPicPr>
        <p:blipFill>
          <a:blip r:embed="rId1"/>
          <a:stretch/>
        </p:blipFill>
        <p:spPr>
          <a:xfrm>
            <a:off x="903240" y="1676520"/>
            <a:ext cx="6792840" cy="4047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Zuletzt wir fliegen von Deutschland nach Chicag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eise</a:t>
            </a:r>
            <a:endParaRPr b="0" lang="en-US" sz="50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anchor="t">
            <a:normAutofit/>
          </a:bodyPr>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019.06 EUR: Flugzeug</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637.40 EUR: Bahn </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11.26 EUR: Hotel Berlin</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14.75 EUR: Hotel Potsdam</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39.79 EUR: Hotel Brandenburg</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0 EUR: Zoo (x3)</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0 EUR: Museum (x2)</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500 EUR: Essen</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Free: Memorials, Brunnen, Städte.</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6,327.74 EUR:  Hotel Adlon Berlin</a:t>
            </a:r>
            <a:endParaRPr b="0" lang="en-US" sz="16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Total: 11,000 EUR</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Dank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lugzeug</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1" name="Picture 5" descr="scan0001.jpg"/>
          <p:cNvPicPr/>
          <p:nvPr/>
        </p:nvPicPr>
        <p:blipFill>
          <a:blip r:embed="rId1"/>
          <a:srcRect l="1104" t="0" r="0" b="43333"/>
          <a:stretch/>
        </p:blipFill>
        <p:spPr>
          <a:xfrm>
            <a:off x="1981080" y="1828800"/>
            <a:ext cx="4932360" cy="38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ahn</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4" name="Picture 5" descr="scan0002.jpg"/>
          <p:cNvPicPr/>
          <p:nvPr/>
        </p:nvPicPr>
        <p:blipFill>
          <a:blip r:embed="rId1"/>
          <a:srcRect l="0" t="26667" r="0" b="38892"/>
          <a:stretch/>
        </p:blipFill>
        <p:spPr>
          <a:xfrm>
            <a:off x="2133720" y="2514600"/>
            <a:ext cx="4986360" cy="236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ap of Travel (Red)</a:t>
            </a:r>
            <a:endParaRPr b="0" lang="en-US" sz="5000" spc="-1" strike="noStrike">
              <a:solidFill>
                <a:srgbClr val="04617b"/>
              </a:solidFill>
              <a:latin typeface="Calibri"/>
            </a:endParaRPr>
          </a:p>
        </p:txBody>
      </p:sp>
      <p:pic>
        <p:nvPicPr>
          <p:cNvPr id="206" name="Picture 4" descr="germany_map of travel"/>
          <p:cNvPicPr/>
          <p:nvPr/>
        </p:nvPicPr>
        <p:blipFill>
          <a:blip r:embed="rId1"/>
          <a:stretch/>
        </p:blipFill>
        <p:spPr>
          <a:xfrm>
            <a:off x="1523880" y="1600200"/>
            <a:ext cx="5867640" cy="465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erlin</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Zuerst wir gehen zu dem Berliner Mauer.  Dann wir gehen in den Zoo Aquarium Berlin.  Danach wir fahren zu dem Pergamonmuseum.  Dann wir bisichtigen im Reichstag.  Zuletzt wir gehen im Holocaust-Mahnma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erlin (Cont’d)</a:t>
            </a:r>
            <a:endParaRPr b="0" lang="en-US" sz="5000" spc="-1" strike="noStrike">
              <a:solidFill>
                <a:srgbClr val="04617b"/>
              </a:solidFill>
              <a:latin typeface="Calibri"/>
            </a:endParaRPr>
          </a:p>
        </p:txBody>
      </p:sp>
      <p:pic>
        <p:nvPicPr>
          <p:cNvPr id="210" name="Content Placeholder 3" descr="Berlin_Mitte_by_night.jpg"/>
          <p:cNvPicPr/>
          <p:nvPr/>
        </p:nvPicPr>
        <p:blipFill>
          <a:blip r:embed="rId1"/>
          <a:stretch/>
        </p:blipFill>
        <p:spPr>
          <a:xfrm>
            <a:off x="1785960" y="2367000"/>
            <a:ext cx="5572080" cy="3524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erlin Hotel</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ininger Hotel Berlin HaupBahnhof</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142.43 €/nach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3" name="Picture 3" descr="3030615_14_b.jpg"/>
          <p:cNvPicPr/>
          <p:nvPr/>
        </p:nvPicPr>
        <p:blipFill>
          <a:blip r:embed="rId1"/>
          <a:stretch/>
        </p:blipFill>
        <p:spPr>
          <a:xfrm>
            <a:off x="2666880" y="2743200"/>
            <a:ext cx="3733920" cy="373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Berlin Hotel (Cont’d)</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as Hotel ist in das </a:t>
            </a:r>
            <a:r>
              <a:rPr b="0" lang="de-DE" sz="2600" spc="-1" strike="noStrike">
                <a:solidFill>
                  <a:srgbClr val="000000"/>
                </a:solidFill>
                <a:latin typeface="Constantia"/>
              </a:rPr>
              <a:t>Regierungsvierte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Das Hotel hat Klimaanlage und einem Aufzu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Constantia"/>
              </a:rPr>
              <a:t> </a:t>
            </a:r>
            <a:r>
              <a:rPr b="0" lang="de-DE" sz="2600" spc="-1" strike="noStrike">
                <a:solidFill>
                  <a:srgbClr val="000000"/>
                </a:solidFill>
                <a:latin typeface="Constantia"/>
              </a:rPr>
              <a:t>Meininger Hotel hat einem Fernsehlraum.</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6T18:25:50Z</dcterms:created>
  <dc:creator>CUSD220</dc:creator>
  <dc:description/>
  <dc:language>en-US</dc:language>
  <cp:lastModifiedBy> </cp:lastModifiedBy>
  <dcterms:modified xsi:type="dcterms:W3CDTF">2012-01-14T00:18:25Z</dcterms:modified>
  <cp:revision>9</cp:revision>
  <dc:subject/>
  <dc:title>Slide 1</dc:title>
</cp:coreProperties>
</file>